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C79-E8E9-4E6E-A55C-B41E1BFF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0E6F-4B1F-4778-AD3A-DFC51079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3C6-AFC7-443F-A890-727E2F7D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C20-DFC1-499F-AAE2-BFD9BCF0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4F1B-B258-4AC2-8E8C-242BB510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AE61-9A93-4BCB-BF05-7B03A4A3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5BF7-1B45-43C2-A1DF-C8EABE7C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8817-490D-4130-98E6-7ABCE45C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1B49-C8C8-440F-B4C8-00943CAC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2776-9D65-4EBA-85E5-D682AA7B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3925-4B77-42CF-8EE1-AA884740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EDA-B6DA-45E3-AE87-511FC154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EAF5-AEC7-4FE4-884D-112EF7D1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8128-6908-48A7-A50B-21E302EA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32CC-4BCE-4FF1-ABAF-7201AB0B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D1C1-B567-470F-B218-918D0371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BA82-0E02-453F-8973-6A9F59A7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038-D6CF-4B97-BCD7-D43303E6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A75-135C-4E34-9650-175DE9CC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0F1-3446-4897-B8B7-85895E5D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55C6-DFB8-4D50-A73E-5DCDD021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EF1-326E-4FAD-8800-897784CC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0E4-EEDE-40A0-B2B5-63562247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27E-9399-4707-B61F-1058AE0E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5C87-F3B6-44F2-B112-B8FF78831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A08B-EC42-434C-A89B-D56E1A2CBF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c110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c1102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tage 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2971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Corie Hah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uren K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What is it?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Stage 4 in sleeping is the deepest stage form of sleep.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It emits delta waves.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Arial"/>
              </a:rPr>
              <a:t>The large slow brain waves associated with deep sleep.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Arial"/>
              </a:rPr>
              <a:t>It’s considered the delta sleep or slow wave sleep. Even though your deeply a sleep, your brain processes a certain stimuli. 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Arial"/>
              </a:rPr>
              <a:t>50 more percent of delta waves than stage 3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ontinue…..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We are most likely to find sleep walking and night terrors.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The delta waves lasts for about 30 minutes and it is difficult to wake up.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For example, about 20% of 3 to 12 year old sleep walk usually lasting for 2-10 minutes and 5% continues.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Children might bed wet during this stage.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ontinue…..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ere is a pattern of deep sleeping and rhythmic continuity. 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43600" y="27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91320" y="2514600"/>
            <a:ext cx="2643120" cy="3352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76720" y="3048120"/>
            <a:ext cx="2404800" cy="2819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914400" y="3124080"/>
            <a:ext cx="2133720" cy="20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Bibliography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e3d19"/>
                </a:solidFill>
                <a:uFillTx/>
                <a:latin typeface="Arial"/>
              </a:rPr>
              <a:t>http://www.sleepsa.com/images/Moon.gif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e3d19"/>
                </a:solidFill>
                <a:uFillTx/>
                <a:latin typeface="Arial"/>
              </a:rPr>
              <a:t>http://en.wikipedia.org/wiki/Sleep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e3d19"/>
                </a:solidFill>
                <a:uFillTx/>
                <a:latin typeface="Arial"/>
              </a:rPr>
              <a:t>http://www.nativeremedies.com/images/design/ailmentPhotoNightTerrors.jpg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e3d19"/>
                </a:solidFill>
                <a:uFillTx/>
                <a:latin typeface="Arial"/>
              </a:rPr>
              <a:t>http://members.arstechnica.com/x/albino_eatpod/typical-eeg-frequencies.gif</a:t>
            </a: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ren Kang</cp:lastModifiedBy>
  <dcterms:modified xsi:type="dcterms:W3CDTF">2008-10-06T00:15:31Z</dcterms:modified>
  <cp:revision>1</cp:revision>
  <dc:subject/>
  <dc:title>Stage 4</dc:title>
</cp:coreProperties>
</file>